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26718-554C-4518-AB7E-06B4386AD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0A092-33CE-4BF5-A954-C434E5CDF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512E1-C588-42C9-9BCF-03E9B10FD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4C257-75CD-40D7-9196-A7CE185C0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D7E4C-D252-4AC4-9101-AF0E25F15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7EBA1-FE14-4F05-A16A-DAD3ED7A7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FE977-269F-4035-84FF-78B503E88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B9BE6-A5D5-49AA-A499-ABBE5C34A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4C3B1-3E7C-44FA-A280-82BB1069D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E32B9-C385-41B9-94E1-304C1FD99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4842D-80D6-4573-9EFA-70B4E6BBB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01138-1B7A-4C4A-A1EC-F23A01E12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B347E-D71D-41B9-9924-AF3EAD578D4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Question 9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Who makes toys at Christma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El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li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an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Question 10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How many people celebrate Christmas every yea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Thous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Mill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Bill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What date is Christma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24th Dece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25th Dece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31st Dece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How do you spell Santa’s last nam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la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la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la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ff00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ff00"/>
                </a:solidFill>
                <a:latin typeface="Arial"/>
              </a:rPr>
              <a:t>What colours do we use for Christma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Red, White and Bl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Yellow, Green and Bl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Green, White and 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What meat do we eat at Christma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Turk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hic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Hamburg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Question 5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Which of these is one of Santa’s reinde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and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udol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an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Question 6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What goes on top of the Christmas t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 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Not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 st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Question 7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Santa Claus is also called Saint Nichol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How many days of Christmas are there (traditionally)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24T05:33:38Z</dcterms:created>
  <dc:creator>edu1</dc:creator>
  <dc:description/>
  <dc:language>en-US</dc:language>
  <cp:lastModifiedBy>个人用户</cp:lastModifiedBy>
  <dcterms:modified xsi:type="dcterms:W3CDTF">2012-12-22T09:43:16Z</dcterms:modified>
  <cp:revision>4</cp:revision>
  <dc:subject/>
  <dc:title>幻灯片 1</dc:title>
</cp:coreProperties>
</file>